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0E017-57F0-4B01-A3CD-7179EF302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E9127-10B3-438E-B60C-BE1EEB667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D4CFC-E10D-43F0-8DF2-801DEC41C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1960E-2BBA-404A-A7FE-CED390A7F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C9860-8F2E-4A83-BABB-632B2E5AF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687D2-EC6D-4670-903C-FCC48E8C0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F6172-0DB8-46FB-B297-F43882023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4DEF1-2CEB-48D7-B30B-0636617A3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9BF03-5EA9-4102-B627-CBD9A4691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E8172-6555-4D4D-A3F1-1253DE70C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6C56C-676C-4FF1-BC27-7EEAFB699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44BF1-542B-4ECA-82D7-5C7F17DBB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ABF01-CFFF-4E05-8651-DCB016747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E19C-7300-47C1-B035-BF1254835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5533-1043-436A-8415-9683E395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576C-4081-4EC7-ACFB-50289C296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1880-2361-4C43-A446-E3664F13A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36FE-8512-4F87-8188-A3300F04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B640-59D9-40BF-8AAD-3AADB04F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77DF-E029-41ED-B297-95052ADF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7EA1-6E5E-4F36-82F9-A89037B0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1488-319D-4100-818C-BF10D465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266B-BEC8-4E94-BD21-295BC9C8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1DBB-2EAD-48F6-8222-EE5279A4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8912-58E7-4EA4-B5F3-5B8BEECD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722D8-6B43-4B8A-A9AB-3127AEEA2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4400" spc="-1" strike="noStrike" baseline="33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entury “Isms”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Number a piece of paper 1-9.  As you see numbered definitions appear on the screen, record the “ism” that corresponds with that defin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#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ystem in which the means of production (like factories and farms) and wealth are publicly owned and controlled by the governm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can be implemented completely or partial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Liber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Totalitari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Fascis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Communis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Isolatio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 Imperi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 Naz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 Nation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 Soci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49240" y="1722600"/>
            <a:ext cx="87249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Do any of these terms seem ideological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ppo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each other?  Which 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Which of these terms seem ideological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imi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each other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Which of these ideas, if any, do you identify with?  Why do you identify with them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anklin Gothic Book"/>
              </a:rPr>
              <a:t>A political system that values democracy, individual rights, privately-owned property, and free market capitalis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Government control over all aspects of public and private life.  Power is held by just one ruling party or group and they push the country towards a specific ideolog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70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olitical movement that promotes an extreme form of nationalism, a denial of individual rights, and dictatorial one-party ru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system tries to eliminate anything that “weakens the stat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ly, it’s a socialist society that exists without a central govern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has never actually existed on a large scal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typically ends up with a totalitarian state that implements a socialist econom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anklin Gothic Book"/>
              </a:rPr>
              <a:t>A policy of avoiding political or military involvement with other countri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a stronger country or empire controls a weaker territory in order to exert political, economic, and/or social infl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The Fascist policies of the National Socialist German Worker’s par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Based 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434960" indent="-571320">
              <a:lnSpc>
                <a:spcPct val="93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totalitarianis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434960" indent="-571320">
              <a:lnSpc>
                <a:spcPct val="93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aggressive expan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434960" indent="-571320">
              <a:lnSpc>
                <a:spcPct val="93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Aryan racial superio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#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that the people living in a particular region and sharing certain cultural characteristics have a common inte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dea drives people to act in the interest of their perceived nation, and sometimes to think less of those who fall outside the national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drives people of a common ethnic group to seek self-rule in their own 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23:29:05Z</dcterms:created>
  <dc:creator/>
  <dc:description/>
  <dc:language>en-US</dc:language>
  <cp:lastModifiedBy>Dom Lambek</cp:lastModifiedBy>
  <dcterms:modified xsi:type="dcterms:W3CDTF">2018-01-03T12:55:55Z</dcterms:modified>
  <cp:revision>5</cp:revision>
  <dc:subject/>
  <dc:title>20th Century “Isms” Review</dc:title>
</cp:coreProperties>
</file>